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CBF-6B84-49F8-8DF0-DF6D0587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86B-D97E-443C-AA3C-21222D21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FDC-4DB9-45EB-8234-1E48755F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449-4C45-4859-B70B-AD765C68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46D-C8C7-41FB-BCD3-40B76F23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E5C-CF9D-4F30-A8FD-563C8DC7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2BA-FAA0-4A8A-A545-4DFD0CD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DA7-EE3B-4AEC-9430-0D4D6D37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46E-8DDA-4D08-89EC-340B2FDD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896-C397-4576-ACB1-B58851D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868-C996-4B2A-AD9C-2CECB39E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670-8B08-4DE1-BA25-AE26E4C7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5136-42D6-4BB4-8D75-9613098111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4720" y="191628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5221-76D0-43DF-B886-C38709E1A268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046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008000" y="1663560"/>
            <a:ext cx="1871640" cy="2376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076000" y="1411560"/>
            <a:ext cx="1871640" cy="2737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2565360"/>
            <a:ext cx="3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860640"/>
            <a:ext cx="358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2637000"/>
            <a:ext cx="3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789360"/>
            <a:ext cx="3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2492280"/>
            <a:ext cx="358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276640"/>
            <a:ext cx="358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58920" y="3213000"/>
            <a:ext cx="647640" cy="583920"/>
            <a:chOff x="1258920" y="3213000"/>
            <a:chExt cx="647640" cy="583920"/>
          </a:xfrm>
        </p:grpSpPr>
        <p:sp>
          <p:nvSpPr>
            <p:cNvPr id="57" name=""/>
            <p:cNvSpPr/>
            <p:nvPr/>
          </p:nvSpPr>
          <p:spPr>
            <a:xfrm>
              <a:off x="1258920" y="3213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0" y="3428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92720" y="3141720"/>
            <a:ext cx="647640" cy="583920"/>
            <a:chOff x="5292720" y="3141720"/>
            <a:chExt cx="647640" cy="583920"/>
          </a:xfrm>
        </p:grpSpPr>
        <p:sp>
          <p:nvSpPr>
            <p:cNvPr id="60" name=""/>
            <p:cNvSpPr/>
            <p:nvPr/>
          </p:nvSpPr>
          <p:spPr>
            <a:xfrm>
              <a:off x="5292720" y="31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65800" y="3357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79280" y="4437000"/>
            <a:ext cx="194472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516640"/>
            <a:ext cx="1727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724280"/>
            <a:ext cx="17272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 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55640" y="5373720"/>
            <a:ext cx="647640" cy="583920"/>
            <a:chOff x="755640" y="5373720"/>
            <a:chExt cx="647640" cy="583920"/>
          </a:xfrm>
        </p:grpSpPr>
        <p:sp>
          <p:nvSpPr>
            <p:cNvPr id="66" name=""/>
            <p:cNvSpPr/>
            <p:nvPr/>
          </p:nvSpPr>
          <p:spPr>
            <a:xfrm>
              <a:off x="755640" y="537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8720" y="558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84360" y="4581360"/>
            <a:ext cx="647640" cy="583920"/>
            <a:chOff x="684360" y="4581360"/>
            <a:chExt cx="647640" cy="583920"/>
          </a:xfrm>
        </p:grpSpPr>
        <p:sp>
          <p:nvSpPr>
            <p:cNvPr id="69" name=""/>
            <p:cNvSpPr/>
            <p:nvPr/>
          </p:nvSpPr>
          <p:spPr>
            <a:xfrm>
              <a:off x="68436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7440" y="4797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47636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4221000"/>
            <a:ext cx="1224000" cy="720720"/>
          </a:xfrm>
          <a:prstGeom prst="wedgeEllipseCallout">
            <a:avLst>
              <a:gd name="adj1" fmla="val -71532"/>
              <a:gd name="adj2" fmla="val 8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16360" y="4292640"/>
            <a:ext cx="647640" cy="583920"/>
            <a:chOff x="2916360" y="4292640"/>
            <a:chExt cx="647640" cy="583920"/>
          </a:xfrm>
        </p:grpSpPr>
        <p:sp>
          <p:nvSpPr>
            <p:cNvPr id="77" name=""/>
            <p:cNvSpPr/>
            <p:nvPr/>
          </p:nvSpPr>
          <p:spPr>
            <a:xfrm>
              <a:off x="2916360" y="4292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9440" y="450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76720" y="4292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77080" y="1989000"/>
            <a:ext cx="647640" cy="583920"/>
            <a:chOff x="6877080" y="1989000"/>
            <a:chExt cx="647640" cy="583920"/>
          </a:xfrm>
        </p:grpSpPr>
        <p:sp>
          <p:nvSpPr>
            <p:cNvPr id="81" name=""/>
            <p:cNvSpPr/>
            <p:nvPr/>
          </p:nvSpPr>
          <p:spPr>
            <a:xfrm>
              <a:off x="687708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50160" y="220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4365720"/>
            <a:ext cx="194472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437000"/>
            <a:ext cx="17272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 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48360" y="4365720"/>
            <a:ext cx="647640" cy="583920"/>
            <a:chOff x="5148360" y="4365720"/>
            <a:chExt cx="647640" cy="583920"/>
          </a:xfrm>
        </p:grpSpPr>
        <p:sp>
          <p:nvSpPr>
            <p:cNvPr id="86" name=""/>
            <p:cNvSpPr/>
            <p:nvPr/>
          </p:nvSpPr>
          <p:spPr>
            <a:xfrm>
              <a:off x="514836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21440" y="4581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8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5229360"/>
            <a:ext cx="1727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076720" y="5084640"/>
            <a:ext cx="647640" cy="583920"/>
            <a:chOff x="5076720" y="5084640"/>
            <a:chExt cx="647640" cy="583920"/>
          </a:xfrm>
        </p:grpSpPr>
        <p:sp>
          <p:nvSpPr>
            <p:cNvPr id="92" name=""/>
            <p:cNvSpPr/>
            <p:nvPr/>
          </p:nvSpPr>
          <p:spPr>
            <a:xfrm>
              <a:off x="5076720" y="508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49800" y="530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86728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41360"/>
            <a:ext cx="1763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ShockwaveFlash1"/>
          <p:cNvGraphicFramePr/>
          <p:nvPr/>
        </p:nvGraphicFramePr>
        <p:xfrm>
          <a:off x="324000" y="907920"/>
          <a:ext cx="8635680" cy="50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635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635680" cy="507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BDE6-11E0-4B99-A1DE-162D578D37BC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628560" y="673200"/>
            <a:ext cx="7201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rig Function 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03280" y="2060640"/>
            <a:ext cx="6494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99"/>
                </a:solidFill>
                <a:latin typeface="Comic Sans MS"/>
              </a:rPr>
              <a:t>The Derivatives of sin </a:t>
            </a:r>
            <a:r>
              <a:rPr b="0" i="1" lang="en-GB" sz="3200" spc="-1" strike="noStrike">
                <a:solidFill>
                  <a:srgbClr val="cc339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cc3399"/>
                </a:solidFill>
                <a:latin typeface="Comic Sans MS"/>
              </a:rPr>
              <a:t> &amp; cos </a:t>
            </a:r>
            <a:r>
              <a:rPr b="0" i="1" lang="en-GB" sz="32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1835280" y="3357720"/>
          <a:ext cx="5827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5827680" cy="8143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0E70-AB41-40E2-9DC3-319F230C0AE0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32000" y="5013360"/>
            <a:ext cx="64944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r these results to work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ust be measured 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DB33-D6F5-4CB6-BE30-D6CF0DEB4C2A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1300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134136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989000"/>
            <a:ext cx="223200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f 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068640"/>
            <a:ext cx="223200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 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f 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c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1916280"/>
            <a:ext cx="280836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3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13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2781360"/>
            <a:ext cx="2808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3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(-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3284640"/>
            <a:ext cx="2808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3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141300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1916280"/>
            <a:ext cx="2916360" cy="138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2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f ′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(3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3284640"/>
            <a:ext cx="28796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′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co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933720"/>
            <a:ext cx="4140360" cy="816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′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cos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56360" y="3860640"/>
            <a:ext cx="647640" cy="583920"/>
            <a:chOff x="6156360" y="3860640"/>
            <a:chExt cx="647640" cy="583920"/>
          </a:xfrm>
        </p:grpSpPr>
        <p:sp>
          <p:nvSpPr>
            <p:cNvPr id="136" name=""/>
            <p:cNvSpPr/>
            <p:nvPr/>
          </p:nvSpPr>
          <p:spPr>
            <a:xfrm>
              <a:off x="6156360" y="38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29440" y="407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6000" y="3933720"/>
            <a:ext cx="647640" cy="583920"/>
            <a:chOff x="7236000" y="3933720"/>
            <a:chExt cx="647640" cy="583920"/>
          </a:xfrm>
        </p:grpSpPr>
        <p:sp>
          <p:nvSpPr>
            <p:cNvPr id="139" name=""/>
            <p:cNvSpPr/>
            <p:nvPr/>
          </p:nvSpPr>
          <p:spPr>
            <a:xfrm>
              <a:off x="7236000" y="39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9080" y="414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64000" y="3933720"/>
            <a:ext cx="647640" cy="583920"/>
            <a:chOff x="5364000" y="3933720"/>
            <a:chExt cx="647640" cy="583920"/>
          </a:xfrm>
        </p:grpSpPr>
        <p:sp>
          <p:nvSpPr>
            <p:cNvPr id="142" name=""/>
            <p:cNvSpPr/>
            <p:nvPr/>
          </p:nvSpPr>
          <p:spPr>
            <a:xfrm>
              <a:off x="5364000" y="39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080" y="414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496360" y="3860640"/>
            <a:ext cx="647640" cy="583920"/>
            <a:chOff x="8496360" y="3860640"/>
            <a:chExt cx="647640" cy="583920"/>
          </a:xfrm>
        </p:grpSpPr>
        <p:sp>
          <p:nvSpPr>
            <p:cNvPr id="145" name=""/>
            <p:cNvSpPr/>
            <p:nvPr/>
          </p:nvSpPr>
          <p:spPr>
            <a:xfrm>
              <a:off x="8496360" y="38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69440" y="407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003640" y="4869000"/>
            <a:ext cx="414036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′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292720" y="4869000"/>
            <a:ext cx="647640" cy="583920"/>
            <a:chOff x="5292720" y="4869000"/>
            <a:chExt cx="647640" cy="583920"/>
          </a:xfrm>
        </p:grpSpPr>
        <p:sp>
          <p:nvSpPr>
            <p:cNvPr id="149" name=""/>
            <p:cNvSpPr/>
            <p:nvPr/>
          </p:nvSpPr>
          <p:spPr>
            <a:xfrm>
              <a:off x="5292720" y="486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65800" y="508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084720" y="4869000"/>
            <a:ext cx="647640" cy="583920"/>
            <a:chOff x="6084720" y="4869000"/>
            <a:chExt cx="647640" cy="583920"/>
          </a:xfrm>
        </p:grpSpPr>
        <p:sp>
          <p:nvSpPr>
            <p:cNvPr id="152" name=""/>
            <p:cNvSpPr/>
            <p:nvPr/>
          </p:nvSpPr>
          <p:spPr>
            <a:xfrm>
              <a:off x="6084720" y="486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7800" y="508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7708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5734080"/>
            <a:ext cx="4140360" cy="816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84720" y="5734080"/>
            <a:ext cx="647640" cy="583920"/>
            <a:chOff x="6084720" y="5734080"/>
            <a:chExt cx="647640" cy="583920"/>
          </a:xfrm>
        </p:grpSpPr>
        <p:sp>
          <p:nvSpPr>
            <p:cNvPr id="158" name=""/>
            <p:cNvSpPr/>
            <p:nvPr/>
          </p:nvSpPr>
          <p:spPr>
            <a:xfrm>
              <a:off x="6084720" y="5734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5949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32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734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Object 2"/>
          <p:cNvGraphicFramePr/>
          <p:nvPr/>
        </p:nvGraphicFramePr>
        <p:xfrm>
          <a:off x="1619280" y="1557360"/>
          <a:ext cx="506736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557360"/>
                    <a:ext cx="5067360" cy="647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4"/>
          <p:cNvGraphicFramePr/>
          <p:nvPr/>
        </p:nvGraphicFramePr>
        <p:xfrm>
          <a:off x="1187280" y="4292640"/>
          <a:ext cx="43056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292640"/>
                    <a:ext cx="43056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1187280" y="5157720"/>
          <a:ext cx="2222640" cy="71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5157720"/>
                    <a:ext cx="2222640" cy="711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1184400" y="6000840"/>
          <a:ext cx="17143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4400" y="6000840"/>
                    <a:ext cx="1714320" cy="6476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Text Box 4"/>
          <p:cNvSpPr/>
          <p:nvPr/>
        </p:nvSpPr>
        <p:spPr>
          <a:xfrm>
            <a:off x="628560" y="673200"/>
            <a:ext cx="7201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rig Function 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11"/>
          <p:cNvSpPr/>
          <p:nvPr/>
        </p:nvSpPr>
        <p:spPr>
          <a:xfrm>
            <a:off x="5929200" y="2610000"/>
            <a:ext cx="2986200" cy="2015640"/>
          </a:xfrm>
          <a:prstGeom prst="pie">
            <a:avLst/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Simplify expression -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loud 12"/>
          <p:cNvSpPr/>
          <p:nvPr/>
        </p:nvSpPr>
        <p:spPr>
          <a:xfrm>
            <a:off x="3938760" y="5284800"/>
            <a:ext cx="2985840" cy="1547640"/>
          </a:xfrm>
          <a:prstGeom prst="pie">
            <a:avLst/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Restore the original form of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41300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2492280"/>
            <a:ext cx="288000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   -    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s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285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573360"/>
            <a:ext cx="2880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 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28560" y="673200"/>
            <a:ext cx="7201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rig Function 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484280"/>
            <a:ext cx="3059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 the follow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133720"/>
            <a:ext cx="122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565360"/>
            <a:ext cx="151308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500280"/>
            <a:ext cx="122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  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05360"/>
            <a:ext cx="151308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941720"/>
            <a:ext cx="15130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1 - s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5445000"/>
            <a:ext cx="172872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- s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133720"/>
            <a:ext cx="1729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3 s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565360"/>
            <a:ext cx="201636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– 3 s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3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500280"/>
            <a:ext cx="1729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s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933720"/>
            <a:ext cx="201636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4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4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941720"/>
            <a:ext cx="1729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)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 + 2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5445000"/>
            <a:ext cx="201636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+ 2 co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2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56000" y="213372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)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+ 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2637000"/>
            <a:ext cx="201636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+  co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–  s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364500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)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4076640"/>
            <a:ext cx="201636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5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 5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508464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5589720"/>
            <a:ext cx="201636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1 +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213372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201600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4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  4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371628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4149720"/>
            <a:ext cx="201600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8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  8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5157720"/>
            <a:ext cx="2266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5589720"/>
            <a:ext cx="262728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6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6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773360"/>
            <a:ext cx="8424720" cy="301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21  Ex 2A Q1 to 3  eas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21  Ex 2B Q1 to 4   ha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5C8D-EE20-44E6-883F-B6584DF911FA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04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3-18T09:51:22Z</dcterms:modified>
  <cp:revision>54</cp:revision>
  <dc:subject/>
  <dc:title>Slide 1</dc:title>
</cp:coreProperties>
</file>